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75A1D77-7AC4-4A33-8D68-8ABC0490B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3E35-FAF1-470A-A55A-067001ADD76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51B4-AA5F-456D-AC80-84B616D9F1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F293-D210-40AD-A094-9EAE758BEB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7F7E-077C-4D03-A903-6083DAC7EF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04A2-4AF5-4EA2-96F9-FB9393D9A9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458-836C-418A-B743-FB6D984FBD1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ADCB-2D2C-47A9-9469-D06EC4F3CD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B203-524E-45C8-ACC4-58A0C282FC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95D-4FC2-40BA-BF60-909DD21CF05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CDD4-81DC-4887-8D3D-26E5FB4CF8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less than 5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6FA4A-7D70-4AC0-8A2E-AA21AE9C01C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55DC-96BB-4DAB-8A76-D844000A97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0CF7-020A-4E72-832F-BB794E3DB2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5 min for question completion and 3 minutes of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E2A9-3E13-4E73-A644-0E71816B81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 Compare graphs, equations, answers… Allow 5 minutes for each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8039-D7B1-465F-A69F-F3C8EC9568F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8D01-F0D8-4656-BCAD-1280FAF1B5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0B9-4568-4B7A-8A6A-11431931B4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9C0-9A92-443D-83F0-F4132BAF4F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2F0E-7E76-4DCD-9F67-D8E3C39C2D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628-5B17-40F7-8CDC-05987FE2D0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1F52-5B9B-41B8-A17B-F01C0F00F0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201A-7A4A-4106-B51F-4650969F7BE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998-ADBD-4B93-8613-435871C2C2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E646-DDF5-496D-91FE-E34B3B13DA4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733-E2ED-48C6-BA7A-0381E4F081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5FB-4C3D-43BB-843A-D3D24FF0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254-3C6C-4850-BFF4-D1E0D354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139-82C9-44A8-BB94-C2D908E3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76A-2A70-45AF-9303-E39FB131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32B6-37B7-4110-9046-3709C862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92FF-F6E9-4178-B2F5-90301208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C2A6-46B0-43B0-AB44-14F8F8A4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D76A-A9C3-49D9-82A7-2FA49996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CC2-6D6F-4F96-8721-E95CEA1A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C479-88AF-49A0-A795-F9B2A45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96C1-B1AD-42CB-AF4F-E3F5F88F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B86-55CD-4E37-B6F6-CED51936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AE18-634E-4671-A8B6-47AD618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B901-5F1A-43BF-82CD-8A0DB06D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E9F-8C8A-4835-BD63-49254B1F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62B9-7995-4AD9-B940-E510B75C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D756-EEA7-4319-BC94-52152AA2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F65-10D8-4422-AD3B-5B176CE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6EB-7133-4B17-A30C-B304A6C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BB3-B6BE-4DCA-9CCF-E0784405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BB1-D642-4F63-A2FC-9F2473B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DD1-CA22-45ED-9305-7AA2576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DB-1798-4F00-A824-520E166A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93A-9612-45E1-9D9F-51C3CFA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F480-B0C4-4051-AAEB-FECC8AB3B4D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C3B-E470-46C8-A1F1-76A1418354D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ED4C-1816-4625-9024-514CA809AB4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b78c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b78c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160" y="444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mmon Student Strugg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960" y="88416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7040" y="3897360"/>
            <a:ext cx="803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iscuss at your table what each of these might look like in your classroom when you are teaching Quadrat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522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800" y="2104920"/>
            <a:ext cx="87156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648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4600" y="22428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1000" y="1841400"/>
            <a:ext cx="8858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587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2800" y="205272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- Activit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2000" y="1778040"/>
            <a:ext cx="87408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Verdana"/>
              </a:rPr>
              <a:t>Recognize that different representations of a quadratic relation highlight different characteristics or behaviours and can serve different purpo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- Activit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040" y="2355840"/>
            <a:ext cx="86868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We will now look at one way a lesson on quadratic relations could go  . . 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Quadratic Car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Comic Sans MS"/>
              </a:rPr>
              <a:t>Each one of you has a card with one of three different representations on it: graph, table of values, factore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Comic Sans MS"/>
              </a:rPr>
              <a:t>Find your group by matching the quadratic relation represented on your card with the other representations of the same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6676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1b78c"/>
                </a:solidFill>
                <a:latin typeface="Arial"/>
              </a:rPr>
              <a:t>Minds On. . 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y = 3(x + 2)</a:t>
            </a:r>
            <a:r>
              <a:rPr b="0" lang="en-CA" sz="2800" spc="-1" strike="noStrike" baseline="30000">
                <a:solidFill>
                  <a:srgbClr val="333399"/>
                </a:solidFill>
                <a:latin typeface="Verdana"/>
              </a:rPr>
              <a:t>2  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– 7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y = – 2x</a:t>
            </a:r>
            <a:r>
              <a:rPr b="0" lang="en-CA" sz="2800" spc="-1" strike="noStrike" baseline="30000">
                <a:solidFill>
                  <a:srgbClr val="333399"/>
                </a:solidFill>
                <a:latin typeface="Verdana"/>
              </a:rPr>
              <a:t>2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+ 4x + 2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512040" y="167652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401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6760" y="2300400"/>
            <a:ext cx="868680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9151a"/>
                </a:solidFill>
                <a:latin typeface="Arial"/>
              </a:rPr>
              <a:t>Action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Everyone is going to receive a graph of a quadratic relation with its equation.  The equation is given i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3 different forms. We will be looking to see what information each form gives, if any, about the parabol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y = 3x</a:t>
            </a:r>
            <a:r>
              <a:rPr b="0" lang="en-CA" sz="2800" spc="-1" strike="noStrike" baseline="30000">
                <a:solidFill>
                  <a:srgbClr val="ff3300"/>
                </a:solidFill>
                <a:latin typeface="Verdana"/>
              </a:rPr>
              <a:t>2  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+6x - 9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 = 3 (x + 3)(x – 1)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y = 3(x + 1)</a:t>
            </a:r>
            <a:r>
              <a:rPr b="0" lang="en-CA" sz="2800" spc="-1" strike="noStrike" baseline="30000">
                <a:solidFill>
                  <a:srgbClr val="ff3300"/>
                </a:solidFill>
                <a:latin typeface="Verdana"/>
              </a:rPr>
              <a:t>2 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 – 1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526080" y="144000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17520" y="1736640"/>
            <a:ext cx="8686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-383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omplete the information requested below the graph given to you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316400"/>
            <a:ext cx="82962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bbe0e3"/>
                </a:solidFill>
                <a:latin typeface="Arial"/>
              </a:rPr>
              <a:t>Discussion (not part of classroom lesson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bbe0e3"/>
                </a:solidFill>
                <a:latin typeface="Arial"/>
              </a:rPr>
              <a:t>How open do you find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17520" y="157140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zeros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vertex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orm a group with only the people who have the </a:t>
            </a: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exact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42680"/>
            <a:ext cx="83232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On chart paper record the important info about your 3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7360" y="3613320"/>
            <a:ext cx="59436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71240" y="1642680"/>
            <a:ext cx="7993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As a class, decide how the chart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ould be arranged to help mak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hat information about the graph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arabola does each form of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Activity </a:t>
            </a:r>
            <a:r>
              <a:rPr b="1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0840" y="1642680"/>
            <a:ext cx="73072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333399"/>
                </a:solidFill>
                <a:uFillTx/>
                <a:latin typeface="Verdana"/>
              </a:rPr>
              <a:t>Follow-up exit card</a:t>
            </a: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: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ich form do you think is m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Share the connections you see between the identified struggles, the activity, and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overall and 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"/>
              </a:rPr>
              <a:t>Consolidate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– Exit Car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ich algebraic representation do you think is best for graphing? For which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ost on the exit board on your way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67000" y="1600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Quadratic Car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24040" y="2271600"/>
            <a:ext cx="6178680" cy="4586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2200" y="1828800"/>
            <a:ext cx="75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Which group has the quadratic relation whose equation corresponds to this re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7720" y="1771560"/>
            <a:ext cx="3506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Identify common misunderstandings that students have about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Build awareness of Trig CLIPS and make connections between CLIP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Practice posing questions based on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5240" y="482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cc99"/>
                </a:solidFill>
                <a:latin typeface="Arial"/>
              </a:rPr>
              <a:t>Minds On: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Think/Pair/Share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1000" y="1614240"/>
            <a:ext cx="851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n your own brainstorm potential struggles/ misconceptions/ partial understandings of trigonometric functions that students hav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cc99"/>
                </a:solidFill>
                <a:latin typeface="Arial"/>
              </a:rPr>
              <a:t>Minds On . . .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A tour of </a:t>
            </a:r>
            <a:r>
              <a:rPr b="0" lang="en-CA" sz="3200" spc="-1" strike="noStrike">
                <a:solidFill>
                  <a:srgbClr val="0000ff"/>
                </a:solidFill>
                <a:latin typeface="Verdana"/>
              </a:rPr>
              <a:t>CLIPS: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eriodic &amp; Sine Functions and 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51320" y="378612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50760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  Peer Review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8760" y="215568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Join a different pair and exchange your learning goals and questions, and provide feedback for editing.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e9151a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Reflect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8200" y="1904760"/>
            <a:ext cx="85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allery walk learning goal question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Group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1600" y="9964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What Big Idea might the author of the question have been addressing with the question?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27240"/>
            <a:ext cx="40384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2998800"/>
            <a:ext cx="40384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1b78c"/>
                </a:solidFill>
                <a:latin typeface="Arial"/>
              </a:rPr>
              <a:t>Minds On</a:t>
            </a:r>
            <a:r>
              <a:rPr b="1" i="1" lang="en-CA" sz="4000" spc="-1" strike="noStrike">
                <a:solidFill>
                  <a:srgbClr val="0d469b"/>
                </a:solidFill>
                <a:latin typeface="Arial"/>
              </a:rPr>
              <a:t> – Group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Find a Big Idea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Choose a specific expectation which addresses th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rite a consolidating question that could assess that expectation </a:t>
            </a: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and</a:t>
            </a: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 gets at that Big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On the back of each paper, identify the Big Idea (e.g. Q3, T2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Write the names of the group members on the back and hand all papers to your facilit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0300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Reflect on the consolidating questions po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Identify common student struggles (errors, misconceptions, and partial understandings, etc) that are grounded in experience and/or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Realize that different representations of relationships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rom your peers …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8912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A question that I might ask of my students to address a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82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d469b"/>
                </a:solidFill>
                <a:latin typeface="Arial"/>
              </a:rPr>
              <a:t>??</a:t>
            </a: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????</a:t>
            </a:r>
            <a:r>
              <a:rPr b="1" lang="en-CA" sz="60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53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36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2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1" lang="en-CA" sz="1400" spc="-1" strike="noStrike">
                <a:solidFill>
                  <a:srgbClr val="0d469b"/>
                </a:solidFill>
                <a:latin typeface="Arial"/>
              </a:rPr>
              <a:t>???? </a:t>
            </a:r>
            <a:r>
              <a:rPr b="1" lang="en-CA" sz="800" spc="-1" strike="noStrike">
                <a:solidFill>
                  <a:srgbClr val="0d469b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63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Verdana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120" y="55872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477800"/>
            <a:ext cx="8863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Algebraic reasoning is a process of describing and analyzing (e.g., predicting) generalized mathematical relationships and change using word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Different representations of relationships (e.g., numeric, graphic, geometric, algebraic, verbal, concrete/pictorial) highlight different characteristics or behaviours, and can serve different purpo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Verdana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468440"/>
            <a:ext cx="87170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lgebraic reasoning can help you to describe and analyze generalized quadratic relations and change using word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ifferent representations of quadratic relations highlight different characteristics and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Limited information about a quadratic relation can sometimes, but not always, reveal other information about that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6T18:55:26Z</dcterms:modified>
  <cp:revision>152</cp:revision>
  <dc:subject/>
  <dc:title>Math GAINS 2008-09</dc:title>
</cp:coreProperties>
</file>